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3615-8EA9-4081-A8DA-67E1CC66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E9E-8425-4517-ADC7-EB535EA9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DC9-312E-4A8A-B05E-EC0D801B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F52-70D1-4E1F-8E23-5D59AD77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A90-EC43-4143-AB86-2E7EB7DC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B1C0-6AB4-4631-87B1-95E004CF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FA61-BA8A-405B-9C69-F42D516E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36D8-6532-4E8F-B0E4-D232C262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33E1-B94D-4E45-AEA6-2EEE1F29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D137-E770-4595-AA69-9862EE35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BE41-1D0A-4208-BB03-8BC3316C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1CA1-D26C-4DCC-8B5B-1989DAA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1FE-D200-4EC2-8BC3-EE6BC67F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6232-2E14-43FD-9D47-13C48F6D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B9C1-8376-4BCC-B0B9-AA5409F4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2A90-831C-4E9A-A306-46B0C9A8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E241-EEB5-46DA-A478-C2E0E6D5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F18-EBE0-4EE3-946E-EC227349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449E-9223-43DD-859D-6B6CA241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A23-7A85-4E3C-9525-EDAB28CD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5E4-F0F1-4FFC-9FD6-CA7ABF91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F41-C273-416D-BEF7-2C03A292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879-405B-4288-9319-A492F5B0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1CD-9EA3-4D77-9656-7F1E0D0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FD08-FFE6-4CEF-A183-E16260661DEA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C7FE-2426-4433-9DF8-F94130CD19D7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892.WAV" TargetMode="External"/><Relationship Id="rId2" Type="http://schemas.microsoft.com/office/2007/relationships/media" Target="file:///tmp/home/.config/libreoffice/4/user/gallery/~PP89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023.WAV" TargetMode="External"/><Relationship Id="rId2" Type="http://schemas.microsoft.com/office/2007/relationships/media" Target="file:///tmp/home/.config/libreoffice/4/user/gallery/~PP202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~PP121.WAV" TargetMode="External"/><Relationship Id="rId6" Type="http://schemas.microsoft.com/office/2007/relationships/media" Target="file:///tmp/home/.config/libreoffice/4/user/gallery/~PP121.WAV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1503.WAV" TargetMode="External"/><Relationship Id="rId4" Type="http://schemas.microsoft.com/office/2007/relationships/media" Target="file:///tmp/home/.config/libreoffice/4/user/gallery/~PP1503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45.WAV" TargetMode="External"/><Relationship Id="rId2" Type="http://schemas.microsoft.com/office/2007/relationships/media" Target="file:///tmp/home/.config/libreoffice/4/user/gallery/~PP74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535.WAV" TargetMode="External"/><Relationship Id="rId2" Type="http://schemas.microsoft.com/office/2007/relationships/media" Target="file:///tmp/home/.config/libreoffice/4/user/gallery/~PP53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602.WAV" TargetMode="External"/><Relationship Id="rId2" Type="http://schemas.microsoft.com/office/2007/relationships/media" Target="file:///tmp/home/.config/libreoffice/4/user/gallery/~PP360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887.WAV" TargetMode="External"/><Relationship Id="rId2" Type="http://schemas.microsoft.com/office/2007/relationships/media" Target="file:///tmp/home/.config/libreoffice/4/user/gallery/~PP288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38.WAV" TargetMode="External"/><Relationship Id="rId2" Type="http://schemas.microsoft.com/office/2007/relationships/media" Target="file:///tmp/home/.config/libreoffice/4/user/gallery/~PP223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Vocabulary</a:t>
            </a:r>
            <a:endParaRPr b="0" lang="en-US" sz="6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2895480" cy="1295280"/>
          </a:xfrm>
          <a:prstGeom prst="rightArrow">
            <a:avLst>
              <a:gd name="adj1" fmla="val 50000"/>
              <a:gd name="adj2" fmla="val 558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762120"/>
            <a:ext cx="4419720" cy="1523880"/>
          </a:xfrm>
          <a:prstGeom prst="leftArrow">
            <a:avLst>
              <a:gd name="adj1" fmla="val 50000"/>
              <a:gd name="adj2" fmla="val 725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xponen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-380880" y="1752480"/>
            <a:ext cx="11125080" cy="586764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exponent is sometimes referred to as the power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valuate the following expressions with exponen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4.)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2x</a:t>
            </a:r>
            <a:r>
              <a:rPr b="0" lang="en-US" sz="4800" spc="-1" strike="noStrike" baseline="30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  and  </a:t>
            </a: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(2x)</a:t>
            </a:r>
            <a:r>
              <a:rPr b="0" lang="en-US" sz="4800" spc="-1" strike="noStrike" baseline="30000">
                <a:solidFill>
                  <a:srgbClr val="66ff33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when x = 4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2(4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and  </a:t>
            </a:r>
            <a:r>
              <a:rPr b="0" lang="en-US" sz="6600" spc="-1" strike="noStrike">
                <a:solidFill>
                  <a:srgbClr val="66ff33"/>
                </a:solidFill>
                <a:latin typeface="Comic Sans MS"/>
              </a:rPr>
              <a:t>(2•4)</a:t>
            </a:r>
            <a:r>
              <a:rPr b="0" lang="en-US" sz="6600" spc="-1" strike="noStrike" baseline="30000">
                <a:solidFill>
                  <a:srgbClr val="66ff33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2(64)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and   </a:t>
            </a:r>
            <a:r>
              <a:rPr b="0" lang="en-US" sz="6600" spc="-1" strike="noStrike">
                <a:solidFill>
                  <a:srgbClr val="66ff33"/>
                </a:solidFill>
                <a:latin typeface="Comic Sans MS"/>
              </a:rPr>
              <a:t>(8)</a:t>
            </a:r>
            <a:r>
              <a:rPr b="0" lang="en-US" sz="6600" spc="-1" strike="noStrike" baseline="30000">
                <a:solidFill>
                  <a:srgbClr val="66ff33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128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  and   </a:t>
            </a:r>
            <a:r>
              <a:rPr b="0" lang="en-US" sz="6600" spc="-1" strike="noStrike">
                <a:solidFill>
                  <a:srgbClr val="66ff33"/>
                </a:solidFill>
                <a:latin typeface="Comic Sans MS"/>
              </a:rPr>
              <a:t>512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omic Sans MS"/>
              </a:rPr>
              <a:t>Closure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.) What’s the difference between an expression and an equation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.) What the difference between a  term and a factor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Closure - </a:t>
            </a: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ame the following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57880" y="3143160"/>
            <a:ext cx="12571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791320" y="2743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90920"/>
            <a:ext cx="4267080" cy="3047760"/>
          </a:xfrm>
          <a:prstGeom prst="rightArrow">
            <a:avLst>
              <a:gd name="adj1" fmla="val 50000"/>
              <a:gd name="adj2" fmla="val 3500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What’s this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685800"/>
            <a:ext cx="2666880" cy="4495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What’s this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Closure - </a:t>
            </a: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ame the following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.) is 3 a factor or term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.) What is the 2 called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3.) Is 3x a factor or a term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4.) Is 3x + 2 an expression or an equation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914400"/>
            <a:ext cx="44956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x + 2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Comic Sans MS"/>
              </a:rPr>
              <a:t>What is the meaning of 4</a:t>
            </a:r>
            <a:r>
              <a:rPr b="0" lang="en-US" sz="8800" spc="-1" strike="noStrike" baseline="30000">
                <a:solidFill>
                  <a:srgbClr val="ffcc66"/>
                </a:solidFill>
                <a:latin typeface="Comic Sans MS"/>
              </a:rPr>
              <a:t>6</a:t>
            </a:r>
            <a:r>
              <a:rPr b="0" lang="en-US" sz="8800" spc="-1" strike="noStrike">
                <a:solidFill>
                  <a:srgbClr val="ffcc66"/>
                </a:solidFill>
                <a:latin typeface="Comic Sans MS"/>
              </a:rPr>
              <a:t> ?</a:t>
            </a:r>
            <a:endParaRPr b="0" lang="en-US" sz="8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6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means to multiply the base 4 by itself 6 times.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676160" y="3352680"/>
            <a:ext cx="2895480" cy="1905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219320" y="3581280"/>
            <a:ext cx="678168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The meaning of the exponent: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•4•4•4•4•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 • 4 • 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3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The meaning of the exponent: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1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86360"/>
            <a:ext cx="9144000" cy="2775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If  8/4 = 2,  then we can say that 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/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 =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.  So if 4/4 = 1,we can say that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/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 =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0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, therefore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0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 must EQUAL 1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666880"/>
            <a:ext cx="518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5.) 4</a:t>
            </a:r>
            <a:r>
              <a:rPr b="0" lang="en-US" sz="66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= 1/4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Fill-in the chart</a:t>
            </a:r>
            <a:endParaRPr b="0" lang="en-US" sz="6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114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1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2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8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3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  = 4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4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990720"/>
            <a:ext cx="487692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5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6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7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2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4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8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219320"/>
            <a:ext cx="6172200" cy="380988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s the exponent gets smaller, what do you notice about the answ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Comic Sans MS"/>
              </a:rPr>
              <a:t>Fill - in the chart</a:t>
            </a:r>
            <a:endParaRPr b="0" lang="en-US" sz="6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6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2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8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4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4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990720"/>
            <a:ext cx="487692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5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6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2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7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2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4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8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8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Evaluate the following expressions </a:t>
            </a:r>
            <a:r>
              <a:rPr b="0" i="1" lang="en-US" sz="4800" spc="-1" strike="noStrike" u="sng">
                <a:solidFill>
                  <a:srgbClr val="ffcc66"/>
                </a:solidFill>
                <a:uFillTx/>
                <a:latin typeface="Comic Sans MS"/>
              </a:rPr>
              <a:t>with</a:t>
            </a: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 exponent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.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when n =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 • 4 • 4 = 6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6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Evaluate the following expressions </a:t>
            </a:r>
            <a:r>
              <a:rPr b="0" i="1" lang="en-US" sz="4800" spc="-1" strike="noStrike" u="sng">
                <a:solidFill>
                  <a:srgbClr val="ffcc66"/>
                </a:solidFill>
                <a:uFillTx/>
                <a:latin typeface="Comic Sans MS"/>
              </a:rPr>
              <a:t>with</a:t>
            </a: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 exponent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2.) 15 + x</a:t>
            </a:r>
            <a:r>
              <a:rPr b="0" lang="en-US" sz="66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when x = 5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5 +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5 + 5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5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5 + 25 = 40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valuate the following expressions with exponen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.)  (3a + 6b)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when a = 1 &amp;     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                         b = 2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514600"/>
            <a:ext cx="54864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(3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) + 6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))</a:t>
            </a:r>
            <a:r>
              <a:rPr b="0" lang="en-US" sz="6600" spc="-1" strike="noStrike" baseline="30000">
                <a:solidFill>
                  <a:srgbClr val="000066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54864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(3 + 12)</a:t>
            </a:r>
            <a:r>
              <a:rPr b="0" lang="en-US" sz="6600" spc="-1" strike="noStrike" baseline="30000">
                <a:solidFill>
                  <a:srgbClr val="000066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0"/>
            <a:ext cx="54864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(15)</a:t>
            </a:r>
            <a:r>
              <a:rPr b="0" lang="en-US" sz="6600" spc="-1" strike="noStrike" baseline="30000">
                <a:solidFill>
                  <a:srgbClr val="000066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225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8T04:25:48Z</dcterms:created>
  <dc:creator>flowing wells</dc:creator>
  <dc:description/>
  <dc:language>en-US</dc:language>
  <cp:lastModifiedBy>Test0</cp:lastModifiedBy>
  <cp:lastPrinted>2000-08-22T23:29:22Z</cp:lastPrinted>
  <dcterms:modified xsi:type="dcterms:W3CDTF">2002-07-01T15:40:51Z</dcterms:modified>
  <cp:revision>16</cp:revision>
  <dc:subject/>
  <dc:title>Bellwork </dc:title>
</cp:coreProperties>
</file>